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3.wmf" ContentType="image/x-wmf"/>
  <Override PartName="/ppt/media/image5.png" ContentType="image/png"/>
  <Override PartName="/ppt/media/image33.wmf" ContentType="image/x-wmf"/>
  <Override PartName="/ppt/media/image34.wmf" ContentType="image/x-wmf"/>
  <Override PartName="/ppt/media/image14.png" ContentType="image/png"/>
  <Override PartName="/ppt/media/image35.wmf" ContentType="image/x-wmf"/>
  <Override PartName="/ppt/media/image36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1.jpeg" ContentType="image/jpeg"/>
  <Override PartName="/ppt/media/image10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12.png" ContentType="image/png"/>
  <Override PartName="/ppt/media/image44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8.png" ContentType="image/png"/>
  <Override PartName="/ppt/media/image6.png" ContentType="image/png"/>
  <Override PartName="/ppt/media/image4.png" ContentType="image/pn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16"/>
          </p:nvPr>
        </p:nvSpPr>
        <p:spPr>
          <a:xfrm>
            <a:off x="384768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ftr" idx="17"/>
          </p:nvPr>
        </p:nvSpPr>
        <p:spPr>
          <a:xfrm>
            <a:off x="-360" y="9427680"/>
            <a:ext cx="294804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Num" idx="18"/>
          </p:nvPr>
        </p:nvSpPr>
        <p:spPr>
          <a:xfrm>
            <a:off x="3847680" y="9427680"/>
            <a:ext cx="294804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74DD1B8-F138-4431-BEB4-B32D39415EFE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50760" y="71424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7177-CCA5-4406-9947-018A329D0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A9F0-FEA8-4BF0-B5F2-CFB8B09AE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3F18-E914-4674-9ECA-C7EF437D6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E53A-01AE-4B71-A9A7-F19915710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ED2F7-F2A9-47CE-B3F5-4794BB54A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CDFC7-C835-4A97-B612-8E2ECB3A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4459-8967-4D74-BD42-80B44013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9A1D-2EDA-4F33-9E97-8BB1A198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4D31-5190-4A34-9908-71FA4AD3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2A162-2492-4A87-AB9B-FD28A1C6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CF8F-AED7-4BF1-85B2-FA1DDB1D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E7CB-D68F-4456-B12A-1ABAA8C5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4BDCB-B0D5-4989-AB7A-3AA00B65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BA89-836D-47FB-98E9-8693F2D6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8599-FB0E-468F-9FC0-443AC3DC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3306-0315-4E05-8598-F29D232B7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2067-D06C-4562-B702-2EF3FFD73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469F5-A117-4FAA-B3DE-5F26ACE65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5F1AD-B3C4-4859-9547-0B3EC806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B65DB-6C41-44D5-91E0-85487050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9AD68-D69D-409C-8189-071EECD8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9C803-5886-4EC5-8452-43D22893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B2D2-B97A-45F4-8387-037A1C41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68092-43F0-4436-B053-96249AF4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A25F6-F7D6-466B-9B32-A1AC11CC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8D34A-8D90-48A3-8393-D8FEF427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95E8C-2B37-4970-9555-862E8532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1A350-8C1F-44A4-8A4F-35B42E6B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635F1-1FF1-413A-8896-96D796215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6CB5D-93A9-4A74-A887-853FE4688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08697-2412-4444-A47C-3CFE6ED0E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9DE23-A587-4148-9A97-600D8886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4C2D3-0AC7-4545-AE71-D7C07F2C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C536-83CC-4AB2-AA00-E75E26C0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0B35F-8BF8-4C83-A6A4-B4BE8DD7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51040-A589-44D6-B278-D344CC0A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43A39-5D62-4FFF-8D23-64080C91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A6220-D24D-4120-AD39-E6D82B2A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B2258-3B75-450B-A7FD-DC825B07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E8034-FADA-4B36-AB74-D7D9D3AE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E43E6-3DB1-4EF4-99B0-EC7C40B6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E84C8-B960-4037-82DB-215BE9A78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D6233-BD2E-4A5C-ABEF-2B398F94E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28FFA-1971-4551-9BED-D65F9C409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3AA5-8591-47A2-9DFD-3C58780D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9D410-22EA-4A60-8BC9-13D057EE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5FAF6-5431-41B8-95AA-71E4F02A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59BB8-F360-4E3C-A971-73E0B4AD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E30F0-F542-4ECB-9A0E-C2A79204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68E46-F654-4B10-AA06-7B50E083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4B8F2-25CC-408B-9D67-EA95925D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29DA9-AE80-45B4-9ACC-F7115B66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605A8-1B68-4782-8B14-84F6BBBD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27124-BEBC-4D5A-82D3-6DE67CCC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025EB-6030-49E9-84A8-566E199D9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0259-1BB1-42B7-8179-5024D745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17516-8BF5-49F2-8505-FC077CC52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D4C6-892D-4186-B8B6-4EAE867C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A609-AB65-45E2-A629-D739439D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159E-64AF-4ED2-A22F-3BB32A20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手繪多邊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手繪多邊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直線接點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D6FC-52B5-489B-8F7F-0879A319A12C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角三角形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群組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手繪多邊形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手繪多邊形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手繪多邊形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手繪多邊形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直線接點 19" descr=""/>
            <p:cNvPicPr/>
            <p:nvPr/>
          </p:nvPicPr>
          <p:blipFill>
            <a:blip r:embed="rId4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  <a:ea typeface="標楷體"/>
              </a:rPr>
              <a:t>100</a:t>
            </a:r>
            <a:r>
              <a:rPr b="0" lang="zh-TW" sz="1000" spc="-1" strike="noStrike">
                <a:solidFill>
                  <a:srgbClr val="e8f0f4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FAA82-F93B-4D77-8C1F-A26C977401D0}" type="slidenum">
              <a:rPr b="0" lang="zh-TW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手繪多邊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手繪多邊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直線接點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＞形箭號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＞形箭號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61F2-56C3-49BD-9C62-6D68EF9E8083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21E9-CBA8-42CA-A72A-333AC1F3CA43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手繪多邊形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手繪多邊形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直角三角形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89" name="直角三角形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直線接點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2" name="＞形箭號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＞形箭號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2E62-A245-42D9-AFC5-219599A5768E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6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371600" y="4076280"/>
            <a:ext cx="640080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衛生署統計室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01.05.2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9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76920"/>
          </a:xfrm>
          <a:prstGeom prst="rect">
            <a:avLst/>
          </a:prstGeom>
          <a:ln w="0">
            <a:noFill/>
          </a:ln>
        </p:spPr>
      </p:pic>
      <p:sp>
        <p:nvSpPr>
          <p:cNvPr id="271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F94C-AAF2-47CA-9E37-84588AA161C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65E6-EBE8-4249-B647-E255457D1E2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0" descr=""/>
          <p:cNvPicPr/>
          <p:nvPr/>
        </p:nvPicPr>
        <p:blipFill>
          <a:blip r:embed="rId1"/>
          <a:stretch/>
        </p:blipFill>
        <p:spPr>
          <a:xfrm>
            <a:off x="0" y="836640"/>
            <a:ext cx="8817120" cy="5695920"/>
          </a:xfrm>
          <a:prstGeom prst="rect">
            <a:avLst/>
          </a:prstGeom>
          <a:ln w="0">
            <a:noFill/>
          </a:ln>
        </p:spPr>
      </p:pic>
      <p:sp>
        <p:nvSpPr>
          <p:cNvPr id="274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F6A6-C2DB-43D9-8559-75137D2A889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2" descr=""/>
          <p:cNvPicPr/>
          <p:nvPr/>
        </p:nvPicPr>
        <p:blipFill>
          <a:blip r:embed="rId1"/>
          <a:stretch/>
        </p:blipFill>
        <p:spPr>
          <a:xfrm>
            <a:off x="0" y="907920"/>
            <a:ext cx="8848800" cy="5334120"/>
          </a:xfrm>
          <a:prstGeom prst="rect">
            <a:avLst/>
          </a:prstGeom>
          <a:ln w="0">
            <a:noFill/>
          </a:ln>
        </p:spPr>
      </p:pic>
      <p:sp>
        <p:nvSpPr>
          <p:cNvPr id="276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B6EF-58F3-4006-8594-3D443F3CCDE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956A-9171-4D67-92CC-8B7BE39ADCB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5DA2-723C-421E-AA0B-65F9F275CEA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9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70436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18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327640"/>
          </a:xfrm>
          <a:prstGeom prst="rect">
            <a:avLst/>
          </a:prstGeom>
          <a:ln w="0">
            <a:noFill/>
          </a:ln>
        </p:spPr>
      </p:pic>
      <p:sp>
        <p:nvSpPr>
          <p:cNvPr id="281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A680-28C8-462C-82DF-4C33BD07351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ED3E-795B-4BE8-B14C-3F8BF66C0EB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8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369040"/>
          </a:xfrm>
          <a:prstGeom prst="rect">
            <a:avLst/>
          </a:prstGeom>
          <a:ln w="0">
            <a:noFill/>
          </a:ln>
        </p:spPr>
      </p:pic>
      <p:sp>
        <p:nvSpPr>
          <p:cNvPr id="284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4771-FEFB-460E-BC05-A9105525E0B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16EC-F31E-42F6-859A-6ADA2081710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9" descr=""/>
          <p:cNvPicPr/>
          <p:nvPr/>
        </p:nvPicPr>
        <p:blipFill>
          <a:blip r:embed="rId1"/>
          <a:stretch/>
        </p:blipFill>
        <p:spPr>
          <a:xfrm>
            <a:off x="0" y="549360"/>
            <a:ext cx="8848800" cy="5705280"/>
          </a:xfrm>
          <a:prstGeom prst="rect">
            <a:avLst/>
          </a:prstGeom>
          <a:ln w="0">
            <a:noFill/>
          </a:ln>
        </p:spPr>
      </p:pic>
      <p:sp>
        <p:nvSpPr>
          <p:cNvPr id="287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C64D-104C-4AB1-88FA-CD0618CCD10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A0EB-EB70-46AB-82AC-8A594B0A29B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10" descr=""/>
          <p:cNvPicPr/>
          <p:nvPr/>
        </p:nvPicPr>
        <p:blipFill>
          <a:blip r:embed="rId1"/>
          <a:stretch/>
        </p:blipFill>
        <p:spPr>
          <a:xfrm>
            <a:off x="295200" y="620640"/>
            <a:ext cx="8848800" cy="5705640"/>
          </a:xfrm>
          <a:prstGeom prst="rect">
            <a:avLst/>
          </a:prstGeom>
          <a:ln w="0">
            <a:noFill/>
          </a:ln>
        </p:spPr>
      </p:pic>
      <p:sp>
        <p:nvSpPr>
          <p:cNvPr id="290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3120-D036-43B0-859F-D4F702252B5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1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918040"/>
          </a:xfrm>
          <a:prstGeom prst="rect">
            <a:avLst/>
          </a:prstGeom>
          <a:ln w="0">
            <a:noFill/>
          </a:ln>
        </p:spPr>
      </p:pic>
      <p:sp>
        <p:nvSpPr>
          <p:cNvPr id="294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A835-EAB2-491B-A3F7-23D41A8C478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570B-05D3-4EC9-8668-4AA89EBCF20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1" descr=""/>
          <p:cNvPicPr/>
          <p:nvPr/>
        </p:nvPicPr>
        <p:blipFill>
          <a:blip r:embed="rId1"/>
          <a:stretch/>
        </p:blipFill>
        <p:spPr>
          <a:xfrm>
            <a:off x="0" y="549360"/>
            <a:ext cx="8848800" cy="5810040"/>
          </a:xfrm>
          <a:prstGeom prst="rect">
            <a:avLst/>
          </a:prstGeom>
          <a:ln w="0">
            <a:noFill/>
          </a:ln>
        </p:spPr>
      </p:pic>
      <p:sp>
        <p:nvSpPr>
          <p:cNvPr id="297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B3AF-C9E3-43FC-BC95-713D3BF22A0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F9E1-78D8-4F9C-805A-AEA002F1F1F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0" y="620640"/>
            <a:ext cx="8388360" cy="5243760"/>
          </a:xfrm>
          <a:prstGeom prst="rect">
            <a:avLst/>
          </a:prstGeom>
          <a:ln w="0">
            <a:noFill/>
          </a:ln>
        </p:spPr>
      </p:pic>
      <p:pic>
        <p:nvPicPr>
          <p:cNvPr id="245" name="Rectangle 6" descr=""/>
          <p:cNvPicPr/>
          <p:nvPr/>
        </p:nvPicPr>
        <p:blipFill>
          <a:blip r:embed="rId2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"/>
          <p:cNvPicPr/>
          <p:nvPr/>
        </p:nvPicPr>
        <p:blipFill>
          <a:blip r:embed="rId3"/>
          <a:stretch/>
        </p:blipFill>
        <p:spPr>
          <a:xfrm>
            <a:off x="2411280" y="5445000"/>
            <a:ext cx="4662720" cy="797040"/>
          </a:xfrm>
          <a:prstGeom prst="rect">
            <a:avLst/>
          </a:prstGeom>
          <a:ln w="0">
            <a:noFill/>
          </a:ln>
        </p:spPr>
      </p:pic>
      <p:sp>
        <p:nvSpPr>
          <p:cNvPr id="24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A368-D7A8-471A-A513-89F13636C38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12" descr=""/>
          <p:cNvPicPr/>
          <p:nvPr/>
        </p:nvPicPr>
        <p:blipFill>
          <a:blip r:embed="rId1"/>
          <a:stretch/>
        </p:blipFill>
        <p:spPr>
          <a:xfrm>
            <a:off x="147600" y="579600"/>
            <a:ext cx="8848800" cy="5705280"/>
          </a:xfrm>
          <a:prstGeom prst="rect">
            <a:avLst/>
          </a:prstGeom>
          <a:ln w="0">
            <a:noFill/>
          </a:ln>
        </p:spPr>
      </p:pic>
      <p:sp>
        <p:nvSpPr>
          <p:cNvPr id="300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7CE29-FED6-4082-BC04-C4B63A63106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9D23-F03D-4E9E-8F70-9F16F63FFED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29C8-5EF1-47B4-B2C6-D3D5C5CBBD3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8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207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B3F7-4750-4FF2-9F7D-39D6D12F46B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7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856944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投影片編號版面配置區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BEE7-B22B-46B6-A400-971B5310506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0" descr=""/>
          <p:cNvPicPr/>
          <p:nvPr/>
        </p:nvPicPr>
        <p:blipFill>
          <a:blip r:embed="rId1"/>
          <a:stretch/>
        </p:blipFill>
        <p:spPr>
          <a:xfrm>
            <a:off x="147600" y="736560"/>
            <a:ext cx="8848800" cy="53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5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41840"/>
          </a:xfrm>
          <a:prstGeom prst="rect">
            <a:avLst/>
          </a:prstGeom>
          <a:ln w="0">
            <a:noFill/>
          </a:ln>
        </p:spPr>
      </p:pic>
      <p:sp>
        <p:nvSpPr>
          <p:cNvPr id="309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7C9B-B899-48B2-A9F6-CBDB53DA168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14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8496000" cy="5597640"/>
          </a:xfrm>
          <a:prstGeom prst="rect">
            <a:avLst/>
          </a:prstGeom>
          <a:ln w="0">
            <a:noFill/>
          </a:ln>
        </p:spPr>
      </p:pic>
      <p:sp>
        <p:nvSpPr>
          <p:cNvPr id="311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A66E-4911-4BEF-8E03-86E85FC0CE8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58D1-17D2-46BF-8D19-E1BC287CE5D5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13" descr=""/>
          <p:cNvPicPr/>
          <p:nvPr/>
        </p:nvPicPr>
        <p:blipFill>
          <a:blip r:embed="rId1"/>
          <a:stretch/>
        </p:blipFill>
        <p:spPr>
          <a:xfrm>
            <a:off x="0" y="620640"/>
            <a:ext cx="8848800" cy="5629320"/>
          </a:xfrm>
          <a:prstGeom prst="rect">
            <a:avLst/>
          </a:prstGeom>
          <a:ln w="0">
            <a:noFill/>
          </a:ln>
        </p:spPr>
      </p:pic>
      <p:sp>
        <p:nvSpPr>
          <p:cNvPr id="314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D26B-FB29-4E6C-862E-D1273868E8B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1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488360" cy="6105600"/>
          </a:xfrm>
          <a:prstGeom prst="rect">
            <a:avLst/>
          </a:prstGeom>
          <a:ln w="0">
            <a:noFill/>
          </a:ln>
        </p:spPr>
      </p:pic>
      <p:sp>
        <p:nvSpPr>
          <p:cNvPr id="316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11DF-791D-4231-AAD6-2FC4B7E32D5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3256-F965-4F94-908F-5D04D55E2AEB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8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835344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投影片編號版面配置區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95ED-2160-4EEB-B7A2-BB217EBDCAE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1CDF-38AE-40A6-A47E-2257AE85F20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0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79200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Rectangle 4" descr=""/>
          <p:cNvPicPr/>
          <p:nvPr/>
        </p:nvPicPr>
        <p:blipFill>
          <a:blip r:embed="rId1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"/>
          <p:cNvPicPr/>
          <p:nvPr/>
        </p:nvPicPr>
        <p:blipFill>
          <a:blip r:embed="rId2"/>
          <a:stretch/>
        </p:blipFill>
        <p:spPr>
          <a:xfrm>
            <a:off x="0" y="620640"/>
            <a:ext cx="8388360" cy="524376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6"/>
          <p:cNvSpPr/>
          <p:nvPr/>
        </p:nvSpPr>
        <p:spPr>
          <a:xfrm>
            <a:off x="5484960" y="210960"/>
            <a:ext cx="215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慢性疾病死因占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6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10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年來事故傷害死因減幅最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147E-22B1-400B-8DC2-9B5A82EDA5B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4593-953C-4A0F-94AA-BF5EDBEA722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9" descr=""/>
          <p:cNvPicPr/>
          <p:nvPr/>
        </p:nvPicPr>
        <p:blipFill>
          <a:blip r:embed="rId1"/>
          <a:stretch/>
        </p:blipFill>
        <p:spPr>
          <a:xfrm>
            <a:off x="0" y="765000"/>
            <a:ext cx="8848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8131-ED42-45D2-BBF3-DCC1A67EFB0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9" descr=""/>
          <p:cNvPicPr/>
          <p:nvPr/>
        </p:nvPicPr>
        <p:blipFill>
          <a:blip r:embed="rId1"/>
          <a:stretch/>
        </p:blipFill>
        <p:spPr>
          <a:xfrm>
            <a:off x="147600" y="727200"/>
            <a:ext cx="8848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12" descr=""/>
          <p:cNvPicPr/>
          <p:nvPr/>
        </p:nvPicPr>
        <p:blipFill>
          <a:blip r:embed="rId1"/>
          <a:stretch/>
        </p:blipFill>
        <p:spPr>
          <a:xfrm>
            <a:off x="195120" y="617400"/>
            <a:ext cx="8753760" cy="5629320"/>
          </a:xfrm>
          <a:prstGeom prst="rect">
            <a:avLst/>
          </a:prstGeom>
          <a:ln w="0">
            <a:noFill/>
          </a:ln>
        </p:spPr>
      </p:pic>
      <p:sp>
        <p:nvSpPr>
          <p:cNvPr id="32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C1B6-109E-461B-9452-A56F4C47C91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F665-A28B-42CA-89FA-9EC9B9F5DBCB}" type="slidenum">
              <a:rPr b="0" lang="zh-TW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WordArt 3"/>
          <p:cNvSpPr txBox="1"/>
          <p:nvPr/>
        </p:nvSpPr>
        <p:spPr>
          <a:xfrm>
            <a:off x="2700360" y="1628640"/>
            <a:ext cx="4248000" cy="244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標楷體"/>
              </a:rPr>
              <a:t>簡報完畢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標楷體"/>
              <a:ea typeface="標楷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標楷體"/>
              </a:rPr>
              <a:t>敬請指教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"/>
          <p:cNvPicPr/>
          <p:nvPr/>
        </p:nvPicPr>
        <p:blipFill>
          <a:blip r:embed="rId2"/>
          <a:stretch/>
        </p:blipFill>
        <p:spPr>
          <a:xfrm>
            <a:off x="0" y="1582560"/>
            <a:ext cx="9144000" cy="4156200"/>
          </a:xfrm>
          <a:prstGeom prst="rect">
            <a:avLst/>
          </a:prstGeom>
          <a:ln w="0">
            <a:noFill/>
          </a:ln>
        </p:spPr>
      </p:pic>
      <p:sp>
        <p:nvSpPr>
          <p:cNvPr id="254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2551-2350-430A-9238-270F7CDF36E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"/>
          <p:cNvPicPr/>
          <p:nvPr/>
        </p:nvPicPr>
        <p:blipFill>
          <a:blip r:embed="rId2"/>
          <a:stretch/>
        </p:blipFill>
        <p:spPr>
          <a:xfrm>
            <a:off x="0" y="1582560"/>
            <a:ext cx="9144000" cy="4156200"/>
          </a:xfrm>
          <a:prstGeom prst="rect">
            <a:avLst/>
          </a:prstGeom>
          <a:ln w="0">
            <a:noFill/>
          </a:ln>
        </p:spPr>
      </p:pic>
      <p:sp>
        <p:nvSpPr>
          <p:cNvPr id="25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704B-A9A4-41EB-AEAD-D007DCBE9C9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Rectangle 4" descr=""/>
          <p:cNvPicPr/>
          <p:nvPr/>
        </p:nvPicPr>
        <p:blipFill>
          <a:blip r:embed="rId1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"/>
          <p:cNvPicPr/>
          <p:nvPr/>
        </p:nvPicPr>
        <p:blipFill>
          <a:blip r:embed="rId2"/>
          <a:stretch/>
        </p:blipFill>
        <p:spPr>
          <a:xfrm>
            <a:off x="612720" y="1503360"/>
            <a:ext cx="7916760" cy="3857760"/>
          </a:xfrm>
          <a:prstGeom prst="rect">
            <a:avLst/>
          </a:prstGeom>
          <a:ln w="0">
            <a:noFill/>
          </a:ln>
        </p:spPr>
      </p:pic>
      <p:sp>
        <p:nvSpPr>
          <p:cNvPr id="260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3107-2117-45D3-B823-AC5E8DD1830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"/>
          <p:cNvPicPr/>
          <p:nvPr/>
        </p:nvPicPr>
        <p:blipFill>
          <a:blip r:embed="rId2"/>
          <a:stretch/>
        </p:blipFill>
        <p:spPr>
          <a:xfrm>
            <a:off x="612720" y="2106720"/>
            <a:ext cx="7916760" cy="3051000"/>
          </a:xfrm>
          <a:prstGeom prst="rect">
            <a:avLst/>
          </a:prstGeom>
          <a:ln w="0">
            <a:noFill/>
          </a:ln>
        </p:spPr>
      </p:pic>
      <p:sp>
        <p:nvSpPr>
          <p:cNvPr id="263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5D5A-3C99-47C7-994E-DD9309B9EE5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F593-4EB6-46CD-A075-2C8237F8605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AD4D-112D-40E8-A676-254AA082A22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7" descr=""/>
          <p:cNvPicPr/>
          <p:nvPr/>
        </p:nvPicPr>
        <p:blipFill>
          <a:blip r:embed="rId1"/>
          <a:stretch/>
        </p:blipFill>
        <p:spPr>
          <a:xfrm>
            <a:off x="147600" y="687240"/>
            <a:ext cx="884880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8127-2D62-40EA-B97A-4E47F1C2385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9"/>
          <p:cNvSpPr/>
          <p:nvPr/>
        </p:nvSpPr>
        <p:spPr>
          <a:xfrm>
            <a:off x="1887480" y="426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1"/>
          <a:stretch/>
        </p:blipFill>
        <p:spPr>
          <a:xfrm>
            <a:off x="152280" y="741240"/>
            <a:ext cx="88394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05:22:00Z</dcterms:created>
  <dc:creator>行政院衛生署</dc:creator>
  <dc:description> </dc:description>
  <cp:keywords>民國100年死因記者會簡報</cp:keywords>
  <dc:language>en-US</dc:language>
  <cp:lastModifiedBy>ASUS</cp:lastModifiedBy>
  <dcterms:modified xsi:type="dcterms:W3CDTF">2012-05-23T20:01:33Z</dcterms:modified>
  <cp:revision>463</cp:revision>
  <dc:subject>衛生署中英文網站</dc:subject>
  <dc:title>民國100年死因記者會簡報</dc:title>
</cp:coreProperties>
</file>